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824F-5DC6-475E-A3A6-7CE4D7BA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D932-9CA7-4AE5-88CF-131660C2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530-3C7F-42F0-9476-8462AD77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E846-810F-4495-A40E-B0ABAB85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BC81-6DA0-435D-AB8F-574751C2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EE67-B627-4A1C-A1C6-85684989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BC1C-B9D3-4CCD-A97B-7FF461F6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E179-FD27-4441-A8D1-638DECBC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2B12-E606-4081-A4E3-EF12BB85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4F5C-DE86-43E6-904E-94A26507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6C45-CD80-49B4-AB33-64B481B4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74F4-3C82-49D8-8EE4-3052D799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15CC-4486-4492-BC43-7E9B7E1D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C8FA-8C5C-472E-B45C-FE9DC763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EA29-1E41-49F8-8E2F-6C5EB54F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6FA4-898A-4C35-83F9-8C0ABC97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7AFE-139F-448D-A96A-02872064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E49-44A8-404E-8FA4-461FBB40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A8C-4CBE-446B-9B13-BD0303DF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74B5-0A03-42EA-9C2C-A8672293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599-DA08-49D2-8B0C-F9CBA226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9F24-8CCB-4386-8594-2F5D512D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6C1-8CF1-47EE-854B-62E00C7C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990-7683-4DEC-9F2C-7615B395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412A-E596-4B77-ADDE-097E51DBA1B5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245D-020F-4EA9-B49F-A760EC69BC5C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4211640" y="189000"/>
            <a:ext cx="792000" cy="307080"/>
          </a:xfrm>
          <a:prstGeom prst="rect">
            <a:avLst/>
          </a:prstGeom>
          <a:solidFill>
            <a:srgbClr val="cc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0920" y="476280"/>
            <a:ext cx="2448000" cy="30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 SPELL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0920" y="836640"/>
            <a:ext cx="424980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ing the last conso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50920" y="1197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hould I double the last consonant of wor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50920" y="1628640"/>
            <a:ext cx="1441440" cy="441252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908000" y="1628640"/>
            <a:ext cx="3384720" cy="452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the last consonan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has 1 syllable and ends 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wel + 1 consona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 – s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g – bigg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– stopp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 a stressed syll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 – controll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- beginn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wel + 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vel - trave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5580000" y="1628640"/>
            <a:ext cx="3384720" cy="44125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o not double the last consonant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 are two vowels or two consona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---wa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l --- coo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ng ---brin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ast syllable is not stress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 – visi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- devel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 w , x or 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w -   sho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x – box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– play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w - draw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50920" y="189000"/>
            <a:ext cx="25905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ing y to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0920" y="54936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should I change y to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79280" y="981000"/>
            <a:ext cx="2232000" cy="21420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 these 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627280" y="981000"/>
            <a:ext cx="2376360" cy="214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+change the y to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 word ends in a consonant + 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y – tri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ry – carri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y  - dri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 – fl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292720" y="981000"/>
            <a:ext cx="3240000" cy="192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o not change it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 in a vowel + 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– pla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y – bu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y – say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24000" y="3429000"/>
            <a:ext cx="2232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ing off the final 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68360" y="371628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 should I take the final e off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50920" y="4005360"/>
            <a:ext cx="2160360" cy="2253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700360" y="4076640"/>
            <a:ext cx="2663640" cy="2253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e the e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sil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– writ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– u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some except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 ___dy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e __ ly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5580000" y="4076640"/>
            <a:ext cx="2879640" cy="1604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o not remove the e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 is sil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__ see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__ be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79280" y="189000"/>
            <a:ext cx="15843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ng 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692280"/>
            <a:ext cx="2952720" cy="30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should I add e 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000" y="1125360"/>
            <a:ext cx="2232000" cy="48481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276720" y="1197000"/>
            <a:ext cx="3240000" cy="473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e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 ch , s , sh , x  or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sometimes  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ch __ wat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x __ box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__ do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__ g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ato __ potat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mato __ tomat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several exceptions, for examp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 __ ph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 __ rad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__ video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4:19:37Z</dcterms:created>
  <dc:creator>عبدالله &amp; محمد</dc:creator>
  <dc:description/>
  <dc:language>en-US</dc:language>
  <cp:lastModifiedBy>- </cp:lastModifiedBy>
  <dcterms:modified xsi:type="dcterms:W3CDTF">2007-02-17T15:10:26Z</dcterms:modified>
  <cp:revision>12</cp:revision>
  <dc:subject/>
  <dc:title>الشريحة 1</dc:title>
</cp:coreProperties>
</file>